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BDAF5-2372-4723-893A-984B385ED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11426-BCC3-4740-8DBE-F417ABEF4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0373F-9634-4D72-BCF5-65038CFDBA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381AB-2D61-4FA8-9EAD-1BE3B69A89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FA6A0-2EEB-4CE2-87FA-7872AFCC5E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FBB3D-074A-4892-B0D6-450CFD434A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B9C0-2E60-45D2-A7E2-45EF6AA077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1656-60FA-448B-845D-1812D6ABBF2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85B2-93C7-490C-961E-F3A81CB4DD8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B518-78C1-4D12-B328-0736AF73E03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A31A-8095-4FD3-8DFB-CAA6ECAD919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210F-8CA6-4E7A-99C5-46C86DFD7BE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C0A3-DD08-4530-BF36-2A8923664B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B47AA-3F73-421D-A8E8-A901209545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0724-2B55-4065-B536-13D7F95AC81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A2E4-5685-4F2B-AAD6-4B3AE2F853B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8D65-C2CB-4D8F-A214-A1C61F30D34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BCB8-E8FC-4160-8C16-97F21EF2B07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68D8-C8CC-4B79-917C-45791C466C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E5B8B-5802-4430-B699-4DA81F0C6E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FD64D-1582-43A8-AA74-DA8A5EAFD5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3A184-F130-4D84-8D29-9C9C06405F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50C37-EEFC-4D05-B8B7-FC04AF4AE3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10A4C-2BC9-4069-95AD-416BEC9151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13A42-1DF9-43FF-9570-91C48CB73D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0368E-B5C8-4189-9506-7E6759E018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Improvement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D7B3F-D215-4A00-BF1E-62EF5351AD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5" descr="paho_286_logo"/>
          <p:cNvPicPr/>
          <p:nvPr/>
        </p:nvPicPr>
        <p:blipFill>
          <a:blip r:embed="rId2"/>
          <a:stretch/>
        </p:blipFill>
        <p:spPr>
          <a:xfrm>
            <a:off x="7696080" y="6211800"/>
            <a:ext cx="1371600" cy="569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5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C8F0E-ED78-4517-A838-0537E26D63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1"/>
          <p:cNvSpPr/>
          <p:nvPr/>
        </p:nvSpPr>
        <p:spPr>
          <a:xfrm>
            <a:off x="457200" y="6429240"/>
            <a:ext cx="281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F691C-7A85-458F-AC9B-9D376F4B7B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99600"/>
            <a:ext cx="3124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560" y="1062000"/>
            <a:ext cx="8458200" cy="52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«В вашей лаборатории были выявлены проблемы с пробами, поступающими в лабораторию из определенной поликлиники. Некоторые пробы транспортировались в лабораторию явно с задержкой, а ряд проб был собран в неподходящие контейнеры. Эти проблемы приводили к задержкам в выполнении анализов и к отказам в приеме проб. Для исправления ситуации был проведен ряд улучшений в ведении записей и на месте сбора проб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990720" y="487692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2-08-04T06:45:48Z</dcterms:modified>
  <cp:revision>66</cp:revision>
  <dc:subject/>
  <dc:title>Slide 1</dc:title>
</cp:coreProperties>
</file>